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B48-4ECA-4239-AA6A-75931870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53E-A3F0-4180-9BC3-C08C6836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28F-C9E6-431E-AD7B-77EC420E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55F-3980-49DF-8D76-6375A9E6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68B-9C6A-40E3-93BE-6BCED5E4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C75-3201-483F-A17A-03EF5D10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3DB-2AA7-4DFB-A160-7E7AEA67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045-546E-49D0-8D1F-439D5306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4A2-C785-4EF5-931F-78F28C8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7B9-9C14-43F9-93D1-2B1EEA03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929-294B-4D0E-9CD3-44CE675D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553-A594-4AE1-9194-63935041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0AA8-11DE-4BFB-B104-B88E9D654E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907920" y="-285840"/>
            <a:ext cx="7328160" cy="5095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04920" y="472284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come up to the front and get a fact sheet, the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find your seat (name on sticky note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3 pa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838080" y="1523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C exam, PA1, PA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Rectangle 6" descr=""/>
          <p:cNvPicPr/>
          <p:nvPr/>
        </p:nvPicPr>
        <p:blipFill>
          <a:blip r:embed="rId1"/>
          <a:stretch/>
        </p:blipFill>
        <p:spPr>
          <a:xfrm>
            <a:off x="-133200" y="6480"/>
            <a:ext cx="949644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83808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in class, MC on Exam days (late Jan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838080" y="2859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= 15%, MC = 70% of Final Exam gr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Rectangle 13" descr=""/>
          <p:cNvPicPr/>
          <p:nvPr/>
        </p:nvPicPr>
        <p:blipFill>
          <a:blip r:embed="rId2"/>
          <a:stretch/>
        </p:blipFill>
        <p:spPr>
          <a:xfrm>
            <a:off x="1359000" y="3468600"/>
            <a:ext cx="6205320" cy="1116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4"/>
          <p:cNvSpPr/>
          <p:nvPr/>
        </p:nvSpPr>
        <p:spPr>
          <a:xfrm>
            <a:off x="1828800" y="4495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1828800" y="5181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1828800" y="5830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(MC &amp; PA) = 2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8" descr=""/>
          <p:cNvPicPr/>
          <p:nvPr/>
        </p:nvPicPr>
        <p:blipFill>
          <a:blip r:embed="rId1"/>
          <a:stretch/>
        </p:blipFill>
        <p:spPr>
          <a:xfrm>
            <a:off x="2487600" y="500040"/>
            <a:ext cx="4046400" cy="1116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304920" y="16477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* Please write this dow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enske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907920" y="-60480"/>
            <a:ext cx="7328160" cy="1140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09480" y="1868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LOVE college football!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, Winter Track, Spring 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609480" y="529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 AP Stat and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09480" y="59072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year with C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907920" y="-139680"/>
            <a:ext cx="7328160" cy="1146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09480" y="1143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Sheridan, Indiana.  Small town with NO stopligh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09480" y="2438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Indiana State University, had class with Larry Bird’s daugh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09480" y="4572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es Biology and Study Ski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0948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oves the Indianapolis Col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09480" y="3733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as worked at South for the last 4 ye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2" descr=""/>
          <p:cNvPicPr/>
          <p:nvPr/>
        </p:nvPicPr>
        <p:blipFill>
          <a:blip r:embed="rId1"/>
          <a:stretch/>
        </p:blipFill>
        <p:spPr>
          <a:xfrm>
            <a:off x="165240" y="-208080"/>
            <a:ext cx="8723160" cy="1324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09480" y="1163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Real World”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09480" y="177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Business”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609480" y="2535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repare you for the kind of math that you will do in your everyday l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609480" y="3906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When will I ever use this stuff?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VERYDA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09480" y="5068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eed this to graduat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4"/>
          <p:cNvSpPr/>
          <p:nvPr/>
        </p:nvSpPr>
        <p:spPr>
          <a:xfrm>
            <a:off x="2057400" y="1298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2057400" y="1905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hecking and Savings Accou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Rectangle 6" descr=""/>
          <p:cNvPicPr/>
          <p:nvPr/>
        </p:nvPicPr>
        <p:blipFill>
          <a:blip r:embed="rId1"/>
          <a:stretch/>
        </p:blipFill>
        <p:spPr>
          <a:xfrm>
            <a:off x="30240" y="165240"/>
            <a:ext cx="8974080" cy="987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2057400" y="2478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redit C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2057400" y="3048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uying a c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2057400" y="3621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uying a ho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057400" y="423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oans and Mortg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057400" y="4840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su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2057400" y="5450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1447920" y="838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3 ring binder (lots of handouts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ok (will keep in clas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Rectangle 6" descr=""/>
          <p:cNvPicPr/>
          <p:nvPr/>
        </p:nvPicPr>
        <p:blipFill>
          <a:blip r:embed="rId1"/>
          <a:stretch/>
        </p:blipFill>
        <p:spPr>
          <a:xfrm>
            <a:off x="2541600" y="-189000"/>
            <a:ext cx="3578040" cy="1116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447920" y="2209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 (scientific, 4 func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Rectangle 8" descr=""/>
          <p:cNvPicPr/>
          <p:nvPr/>
        </p:nvPicPr>
        <p:blipFill>
          <a:blip r:embed="rId2"/>
          <a:stretch/>
        </p:blipFill>
        <p:spPr>
          <a:xfrm>
            <a:off x="2554200" y="2786040"/>
            <a:ext cx="3005280" cy="1116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1447920" y="3809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1447920" y="4495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1447920" y="5181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ell ph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447920" y="5830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ress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27432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bs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274320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Rectangle 6" descr=""/>
          <p:cNvPicPr/>
          <p:nvPr/>
        </p:nvPicPr>
        <p:blipFill>
          <a:blip r:embed="rId1"/>
          <a:stretch/>
        </p:blipFill>
        <p:spPr>
          <a:xfrm>
            <a:off x="2548080" y="-189000"/>
            <a:ext cx="4151160" cy="1116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2743200" y="2286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Rectangle 8" descr=""/>
          <p:cNvPicPr/>
          <p:nvPr/>
        </p:nvPicPr>
        <p:blipFill>
          <a:blip r:embed="rId2"/>
          <a:stretch/>
        </p:blipFill>
        <p:spPr>
          <a:xfrm>
            <a:off x="2560680" y="2786040"/>
            <a:ext cx="4016160" cy="1116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274320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2743200" y="4572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2743200" y="5181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ceiving cre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2743200" y="5830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 assign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190512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905120" y="1523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Rectangle 6" descr=""/>
          <p:cNvPicPr/>
          <p:nvPr/>
        </p:nvPicPr>
        <p:blipFill>
          <a:blip r:embed="rId1"/>
          <a:stretch/>
        </p:blipFill>
        <p:spPr>
          <a:xfrm>
            <a:off x="1768320" y="-189000"/>
            <a:ext cx="5712120" cy="1116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1905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ats/sung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Rectangle 8" descr=""/>
          <p:cNvPicPr/>
          <p:nvPr/>
        </p:nvPicPr>
        <p:blipFill>
          <a:blip r:embed="rId2"/>
          <a:stretch/>
        </p:blipFill>
        <p:spPr>
          <a:xfrm>
            <a:off x="2560680" y="3084480"/>
            <a:ext cx="3157560" cy="1116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1905120" y="423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/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1905120" y="49165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1905120" y="560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914400" y="83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# pts. Earned / # pts. possi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91440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W, quizzes, tests, projects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Rectangle 6" descr=""/>
          <p:cNvPicPr/>
          <p:nvPr/>
        </p:nvPicPr>
        <p:blipFill>
          <a:blip r:embed="rId1"/>
          <a:stretch/>
        </p:blipFill>
        <p:spPr>
          <a:xfrm>
            <a:off x="2968560" y="-109440"/>
            <a:ext cx="3114720" cy="1116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914400" y="220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rderline grades (79.48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914400" y="2859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ormal grading scal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93% = A, 90% = A-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Rectangle 13" descr=""/>
          <p:cNvPicPr/>
          <p:nvPr/>
        </p:nvPicPr>
        <p:blipFill>
          <a:blip r:embed="rId2"/>
          <a:stretch/>
        </p:blipFill>
        <p:spPr>
          <a:xfrm>
            <a:off x="2719440" y="3468600"/>
            <a:ext cx="3784680" cy="1116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4"/>
          <p:cNvSpPr/>
          <p:nvPr/>
        </p:nvSpPr>
        <p:spPr>
          <a:xfrm>
            <a:off x="274320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2743200" y="5181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pract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2743200" y="5830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Senske</cp:lastModifiedBy>
  <dcterms:modified xsi:type="dcterms:W3CDTF">2009-01-30T19:16:01Z</dcterms:modified>
  <cp:revision>28</cp:revision>
  <dc:subject/>
  <dc:title>Slide 1</dc:title>
</cp:coreProperties>
</file>